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743A-5B4C-4D4D-BFBF-AC2A1901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13C-0E6C-416B-834E-DC526161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1D88A-3200-49AE-9F4C-162591F6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BC3C8-6193-4F30-B9B8-EB2F3AAC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33A05-7571-4AF2-AD9B-05A511EC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4FA9B-21D7-4CB8-BB5A-E4358827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FC191-07F2-4CE5-9E4B-A43E2AF0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3C104-046D-4CFC-B779-4F37262F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C9FD7-4D67-4813-9BC7-4CFB7BD1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53EC6-F9BF-4AD2-A94F-9AD81255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36385-0628-4F10-BA9F-2952CC23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2D087-6DA0-4541-B0FE-A0C14031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B5E-C72A-4269-A397-D8561509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21D48-A691-4C04-B6E4-9FF5D3F5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70D26-192C-4C08-BA09-73314D2A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71EFC-611C-4FE0-AF10-6139EFE3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1AA83-E2EA-485A-8FC9-D8241027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5F91F-7160-49D6-AB41-9B61078A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F54D4-0DA2-4EE7-A12E-EDFEE8D5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CBE2B-A7F7-43CC-8F45-B96A5FFF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67EBA-19F4-415C-A3DA-8542B292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63F68-6DE2-40B3-829A-3DFDFE7A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E38C8-0514-44B4-8A2A-6E40D8BD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122-EE4E-4F2D-93FE-4867869A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078ED-12D7-4EAE-BAF8-E0C5889D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BF8D4-6869-4724-811F-55FF4256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7D950-2A8A-4CD1-AE3A-75A03CE8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0F0FD-9528-4CCE-BD7C-86741EDD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47E46-D9EF-4303-9BBA-7A3F6F30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05538-9588-45F4-B8F2-256C3269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FE0D1-A1D6-43C2-B59B-D0F3A287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7DE5B-F30A-45BE-A75D-228DF4C3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3D939-A4EC-4FB5-8923-1E5B74E0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C79A0-20D4-4B82-B484-885F807E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A388-180A-4291-B8FE-8D8FCFAE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C2F55-714F-41D5-B6B9-AD8455B7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DCBB4-98BB-4902-8C72-92505A0B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48B48-E2AB-4ADC-A1B0-60BF85E8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640E9-76D7-4AE0-B16B-5E939860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E8ABA-E7A8-4FBD-B1CD-CFB99CE3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A7721-FB8E-4491-A3E3-FB7CBB23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F7FEC-0219-4AC0-8787-72267264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C1D2A-4599-4E1A-AA3C-4CC8455B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A6261-1011-448A-B3FC-B91DBD7C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99FBC-A136-469E-A846-6A1C69E6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7CB0-3759-4046-B0D2-74582AA8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2BF9B-4C35-4E0D-A756-4781F186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10A16-54BA-460D-92EE-39A04E63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F6DED-2243-47A0-B32F-5DE15B28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D2B03-0C34-479E-B18B-E82B59FC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C2B27-9FF9-4A7D-9EA9-1D456C17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29DFA6-CB77-42BB-899F-961BA1F9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242566-2E8D-4F09-9213-C07A2ACA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105C8C-10CC-4E30-8CBE-D029E71D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14E70D-8501-4D67-81EA-13D3997F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C35B4D-DBC3-4E11-8EFA-67B303A8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4289-22BA-4E60-B767-C7E9A844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C7E75-C68B-48B2-87DC-EB99B79F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38DB47-42BF-4CC2-ADE8-2276066C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3E9BE-EDD6-4DE2-AAF0-30C1BE8E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BB8E3-2045-4800-A7BB-CEF54894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EA92F3-751E-4683-9482-69F5A83D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681FA-E45B-46B1-BEBF-942C3F13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E69E25-8B1B-4D82-A419-157003BF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1BC6B9-8B95-4ABC-9BA1-D8BA339A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98EE3-D8BC-49F4-8301-5984F34C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A1610D-5340-4409-ABAE-773AC138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B840-9BA6-4A74-850A-7331EAF6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0BEE36-6F03-427C-ABA6-2127F7FC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2590D7-B070-4CA0-BD57-336C17CB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7ACF17-D220-43E0-94BE-75C65332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2C1D20-5A86-4808-8050-BEAE8360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65541E-EFAD-4AE4-A7C9-91138FD7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EB68D3-51E6-488C-A7DB-35EF1895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B5A9B1-DE9A-4156-BFC0-EB7CC43B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380393-938F-4240-92B2-A6A6B450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22B2A1-7721-497E-9593-85EF38C6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89147A-449E-43C3-980F-A08D7B92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ADBD-02E6-47C7-AAB8-F63C4C0D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76842D-53FC-4710-819A-469A2845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80FDA0-83A5-4FFF-9FA3-79B2E9F4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430808-B523-4CC7-9652-E8A47045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68FC39-3533-4D7D-8E25-556C3C11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B1F1E7-1A52-45C3-BEB1-DD8306FC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D2687C-B0D6-446E-8C85-29DA020D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342BCC-8004-4854-A73D-D787738F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8E2043-A532-4E7C-A36B-FB7CF29C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16B30A-E253-4063-B634-3DD16F6D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CCD668-B26F-4B5F-B3D2-59BE7692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0AD4-6564-4BA9-9E43-6750E30D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4B9ED3-7350-4D31-B0C3-799CCF00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86E477-9171-413E-A52A-1888E4BF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B11725-A18B-42E1-AB2D-E3999F79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B936B6-859D-44FA-A17F-494CD25C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4EAB3B-35F0-4E95-BC80-A9287BF0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8F9178-546E-4818-B567-DB98C25F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C0BAD6-9604-40F7-8E6C-F1360CCE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2EC082-262C-4F67-86C8-EAA94961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CDB8A5-C0F7-4760-8074-BCA31BD0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315326-F6FA-4044-9520-C5330757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BA19-35DD-49D2-BA6F-5EF88303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1B9120-DECC-4429-B8B0-3942A1F5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8D8D49-EAEE-41D7-A435-8964B419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360829-D5C9-41A2-96C9-513ED6B8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A1BF06-E0A9-4810-8FF2-C0161E8F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294824-42FC-4B06-A410-AD275AE5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6C4776-F319-4D1F-8B30-5EAEA5D6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977905-7592-4A19-99DF-A29B4EFE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88F5E5-5E2D-42FC-BCB5-DAB39144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234620-823F-4638-9BA3-2C4DABA1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88E0C8-77AF-4FB0-A2F2-C371F5C5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3DB6-43D5-4015-A377-80713412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BB72-4FE7-44AB-B060-16B1F3BE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94DA18-D5E8-4A71-A424-CF70BA0D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B0890C-B07B-4756-A764-8C71C6BD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72EFB1-1ABB-4C37-BD9A-91AEB748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ABB527-7B05-4565-8CA8-FADEC943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7DBD4D-2EB2-4767-AFB7-BE665F3E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905DF9-1936-4356-9CA7-4A0351BE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338174-8D50-479A-85F8-5D248274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499769-CA42-4869-B796-9BBCFF0D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C774D2-2E74-40E0-B560-907917A6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F0CB73-6772-4F8F-9B53-C4260FF6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B71B-3D78-4E2A-8512-71F091EA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720B36-9550-4A62-B55D-5C0A5E63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4F00CE-B19B-4EF6-A2BF-8B622A8A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949263-BF1F-4F71-B1F8-BB44661E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9AF67F-95EA-4841-8010-17FF4A7D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6F8D7D-DC99-4B24-86DE-67B04822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53ACD9-0286-4CE1-A90E-B45AF2A1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B39737-7097-4731-A3FB-22E4D244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4B8619-8F2B-4BC2-A091-29C1F893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81346C-E81F-4F58-BC84-CE1BC7ED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8CA920-6395-4DC9-A62D-2A239FA8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6EA6-930C-4A4E-AEDD-B2A8A8B8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F47130-AE5D-40B7-9999-15AE33FE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9D6F62-25D6-4062-B8BD-7EDB7ECE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C4093F-8F07-4B70-A766-4CEE854D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2CF0D5-5F99-4AD9-8078-333E1E08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1CEB09-F62C-4EE5-9237-7CEF1835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FD8F82-6ADE-458D-9FA8-A3BE468D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022559-CA9E-46D4-858C-077F4B9A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7A4EE0-2A72-4FB8-8813-C36E6CC0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71C0BB-00CF-4650-95F7-B86B22F7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B6291D-A013-4B62-A90A-CEA472B4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E9CC-1384-4A21-A2DF-3D3FFF56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65C91C-0955-4F3A-87D6-557116CA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FFF809-2095-4520-913B-40DFCC52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5C67BA-4814-419E-AAF1-B77A7265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0A3FD6-572D-4CA6-A92B-05D858BF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E039CE-C7F8-4157-A194-6C92C689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A24243-E001-4E03-B9D0-B5BB0E8D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C4FA38-7E8D-4254-A073-33A68F13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F3A9A1-AD46-42DC-B035-3EC504D7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EA5519-1351-48FC-A335-F217335E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AF9DA6-FA97-43AD-9113-6450DDDF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E48A-9458-4BD9-8FCE-50494D65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CD87CD-9B68-4501-BD03-BD2C3F31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F535D3-4414-423C-B2C7-D4C29C80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D412FC-8A31-41D5-B0F4-CA7517CA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347A00-0001-4D06-A16D-3447108F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6530AB-B223-461C-A1B7-E1D16B63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5B6E9C-6635-4AAE-90B7-0ED450DC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54AF38-CEF1-4157-A47B-37384713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2DB41F-A637-487D-B090-A84F9A7C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8AEB3D-303C-4C9B-A0FE-4E0ED518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540E33-2289-4D9D-96EA-57D031CD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C3A40-41C7-4997-A5BB-2E90B9D6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29611D-FC13-4A16-A355-9C71C8F8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D500BB-3014-48AB-92A3-EAA94020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DCCFF7-25A8-47E2-8934-49F70883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8D743-0FEF-4FA2-A7EA-7A62DD2C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14BD6-E81B-48A1-AA15-4B3A6427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B54F5-67D4-47F3-9824-C779A12B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A6450-06E7-4529-9AF1-277963B6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1AB7-C37D-4159-BC30-13FF90B5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E937F-6867-4981-B20B-B57C0446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4D953-4AD8-488F-B2B2-3C8EA42F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B675D-8E0D-4EB4-8447-1428C101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4A24C-D39C-4D02-9AA9-B3604D7A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56F72-194D-469E-88CB-4C934CA7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A50EA-FB53-422B-AE04-F4BC66F6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D6349-093D-4576-94AE-A6CF0553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E872C-F5ED-4957-B3C4-5B7480E8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D12B1-6C86-4344-B734-1C237B76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A1DDB-B136-470F-8E24-C5280721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993A-78DD-4C55-BAB0-1479B7F7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1D70E-CD09-4DFD-B298-83742F87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8F131-42EE-46F8-9788-F976B0EE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9FAE0-6736-4F77-84C0-8AFDCBC9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DA600-E1F9-4B00-B322-7107C79D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BB302-2E15-4244-87CE-538F3CEE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4311C-0EF0-4C34-BB5D-3CDAD184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C5772-2F89-4D80-AD04-193431A5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82A4C-E8A9-4CFA-B4FF-4A1435C9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5A0CD-EF67-4E64-9C54-F2333108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7BAFD-CDE3-46FF-9AC0-4ED881C7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5510-49A8-4F26-8373-EA832427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6556B-C6ED-4F3A-ABAF-38AB3354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C2AB7-DDFF-429C-B021-CB359A6D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4CD20-1B6E-4A02-B979-B803F5F4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A1D94-B301-4C2C-980D-2E90B237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0E5FB-5BBF-433C-9202-508C6EA2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B8338-FA17-4FC8-A258-A4D1DC11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D42CC-7FF4-471A-81F8-B6DAC0F0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1A27D-92BA-4C84-9EFB-77C7175B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4553F-9E93-4EAB-9394-1AC37DA7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5C608-844F-4BAA-B80B-0C4E5717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6132-920A-4246-9DC4-CBCC17EB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4BF84-B8C3-4D3D-8848-D7F0AA3F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257C3-4F03-4A36-97D2-78DFDA28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A43E1-D09E-4B64-A549-F6AF0A6F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3040F-A82A-4D0F-9575-F38EBF6B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6E8EB-6CC0-4B69-BCB2-140ECC09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5E13E-7B6A-424D-ACAB-B7751C56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56CF7-1D69-4009-BEDB-4D550C04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D54E4-FA3E-4F3A-B7D8-C84EBCC2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B4F71-42F3-47C3-BAF2-D4128601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B5F0A-8401-4D65-BF63-B22C1662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8FBE-AB4B-4E9E-B731-2B77DCE6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164E2-DBA9-454F-882F-6B923733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5A8C4-38C3-4C2C-AD05-1AE1E3FE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B322E-B12D-4F98-B6A6-9DC759E4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B2296-3BCA-489D-84AF-0D543FCB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3A51C-A3EC-4FB8-8EC1-981F55AC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895E1-BAD0-4474-8F74-FF2BA915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94A81-F137-49DF-9486-024F72C4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9B307-6901-40F7-973E-752FEC19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0F0F6-1C7A-4B83-9F40-A62CBE63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EDC53-5A53-4EBF-A538-695F1921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F3D-33F1-4E73-A9C9-9ECEC25D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74FE4-6F93-4845-8833-BC6680CB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614AF-D976-44D5-8D0E-595D8575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1D3F3-E132-4E27-BE86-EC21904B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DB24C-8A12-4B5C-A0A0-A6E70CF4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F40A9-2890-4EDE-996F-ED23551D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6D222-6B55-4617-ADF7-7AD52CD1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DE69F-0B73-4FB2-AB30-5474D2E7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524A1-C9F4-4E78-9604-610B4F9E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A1E25-3E0B-47AA-838E-D18207B3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7D630-627E-4A8B-B54D-5EBEE1B1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C3A-7D64-4A69-A077-2B160C14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5644B-41ED-44D8-91C6-A6E9A2CA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C0886-1383-4A34-8B94-AF02B2CD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D4511-9C73-4A3C-B577-22B218D6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D4DD0-3DD9-49A1-9643-FB01F904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C2DF3-AF70-4C9C-8143-608FF7B8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09B28-F21E-41BE-96A8-231AA00A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78746-5920-4B27-81BD-BE92F8E6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BB54B-C2A1-4FAB-9184-3F0E9423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3D8DC-6725-4F83-AD45-7146B89E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3E014-6D23-4ACF-92E7-CF89993C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B6CD-F002-4276-8A20-A35B87E230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C149-09EB-4E76-B81E-AC806A3D84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528B-2FA2-4247-8841-41B791552A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690D-CCF4-47F7-98B1-B7E8324911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F5C7-D55D-4070-AED3-662474F4E3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BAEB-5494-4A4B-B449-D31BDEB058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80C3-B5B4-4821-B572-F381CED5B1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049D-1272-4865-BB33-43C3F09243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1CA2-05A0-4CB7-822C-063AC7FDCA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0DA3-69AA-47B4-8C24-ED10A9D2A4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070B-271B-4AF9-9A75-7610E3E96A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FC16-12FB-45AD-B639-3A35E1687F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5CFB-8394-4D19-933C-8109C05124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0379-FCB1-4EFF-AD4E-59E0E3D448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D855-A7F4-4031-9B67-153D755F07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001B-EBA6-4072-B973-DC2CC37670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E665-1266-4227-9534-9ED89A14B9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AC78-5D0E-4306-B6AA-D67A23124D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3F7D-11EE-4D98-A553-EC6290D8E1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C89B-BD57-46E0-9C08-0AD233FA85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E54A-252C-4834-A184-BC96472FE6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BDE7-A363-4D0C-98C5-69F557A4E3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1FBA-6741-49BD-99AE-0A5F7A8D12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16A8-4E67-4C2E-A46F-5192836914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9087-F95B-4572-AB35-62AD1BE35A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F744-8DC5-44F9-9C82-1EA9AE93E9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C9F5-3D9B-4301-B61C-58C6A63D6D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7295-60CF-4F16-B1AE-06271482EC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349F-49EA-4A28-B483-4D20E10A91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032A-239E-47F1-B8C4-A9213601A9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5D34-9692-4055-88D6-BE32466276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8B89-4171-4EC7-A0C1-708223E0B3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8062-7251-4766-9446-EB45E001D5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01D9-4F4B-45C2-AC68-E2B6D49607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6A9A-4C79-460B-9243-EFDD671C28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6C82-0AA2-44A3-AA16-67B9AE46BE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C5C7-6E7E-4332-B170-83F0880957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9621-FF3F-496B-BD33-6C48C34EB9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7C8B-E40A-4D62-8C50-F49258A163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EAA0-2A40-4923-AA64-A14D5D0255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181160" y="2957400"/>
            <a:ext cx="678168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69633" descr=""/>
          <p:cNvPicPr/>
          <p:nvPr/>
        </p:nvPicPr>
        <p:blipFill>
          <a:blip r:embed="rId1"/>
          <a:stretch/>
        </p:blipFill>
        <p:spPr>
          <a:xfrm>
            <a:off x="252360" y="689040"/>
            <a:ext cx="8639280" cy="61246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2340000" y="3068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7885080" y="308304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8609" descr=""/>
          <p:cNvPicPr/>
          <p:nvPr/>
        </p:nvPicPr>
        <p:blipFill>
          <a:blip r:embed="rId1"/>
          <a:stretch/>
        </p:blipFill>
        <p:spPr>
          <a:xfrm>
            <a:off x="861840" y="1197000"/>
            <a:ext cx="7420320" cy="205740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68610" descr=""/>
          <p:cNvPicPr/>
          <p:nvPr/>
        </p:nvPicPr>
        <p:blipFill>
          <a:blip r:embed="rId2"/>
          <a:stretch/>
        </p:blipFill>
        <p:spPr>
          <a:xfrm>
            <a:off x="819000" y="3373560"/>
            <a:ext cx="7506000" cy="21430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4140360" y="1441440"/>
            <a:ext cx="576000" cy="7351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7451640" y="155736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3967200" y="2319480"/>
            <a:ext cx="576360" cy="7347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6877080" y="243540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2124000" y="3630600"/>
            <a:ext cx="936720" cy="7048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4932360" y="373068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7885080" y="371628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2627280" y="4638600"/>
            <a:ext cx="504720" cy="4939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1"/>
          <a:stretch/>
        </p:blipFill>
        <p:spPr>
          <a:xfrm>
            <a:off x="4716360" y="4451400"/>
            <a:ext cx="936720" cy="7779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2"/>
          <a:stretch/>
        </p:blipFill>
        <p:spPr>
          <a:xfrm>
            <a:off x="7510320" y="4595760"/>
            <a:ext cx="936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66760" y="909720"/>
            <a:ext cx="8610480" cy="50385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516720" y="3213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195640" y="388944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788000" y="393372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012000" y="5388120"/>
            <a:ext cx="576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585720" y="880920"/>
            <a:ext cx="7972560" cy="55724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3851280" y="162864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3851280" y="3068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7524720" y="3068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3708360" y="3789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6"/>
          <a:stretch/>
        </p:blipFill>
        <p:spPr>
          <a:xfrm>
            <a:off x="4284720" y="5905440"/>
            <a:ext cx="11509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566640" y="1986120"/>
            <a:ext cx="8010720" cy="28857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1692360" y="3529080"/>
            <a:ext cx="129528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2195640" y="4221000"/>
            <a:ext cx="1295280" cy="493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6516720" y="427824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7352" descr=""/>
          <p:cNvPicPr/>
          <p:nvPr/>
        </p:nvPicPr>
        <p:blipFill>
          <a:blip r:embed="rId1"/>
          <a:stretch/>
        </p:blipFill>
        <p:spPr>
          <a:xfrm>
            <a:off x="299880" y="871560"/>
            <a:ext cx="8544240" cy="51148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3851280" y="249228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4211640" y="461016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6324" descr=""/>
          <p:cNvPicPr/>
          <p:nvPr/>
        </p:nvPicPr>
        <p:blipFill>
          <a:blip r:embed="rId1"/>
          <a:stretch/>
        </p:blipFill>
        <p:spPr>
          <a:xfrm>
            <a:off x="609480" y="2028960"/>
            <a:ext cx="7925040" cy="28000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2268360" y="350028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5300" descr=""/>
          <p:cNvPicPr/>
          <p:nvPr/>
        </p:nvPicPr>
        <p:blipFill>
          <a:blip r:embed="rId1"/>
          <a:stretch/>
        </p:blipFill>
        <p:spPr>
          <a:xfrm>
            <a:off x="271440" y="1009800"/>
            <a:ext cx="8601120" cy="4838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1258920" y="3284640"/>
            <a:ext cx="316872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1116000" y="5359320"/>
            <a:ext cx="3168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4276" descr=""/>
          <p:cNvPicPr/>
          <p:nvPr/>
        </p:nvPicPr>
        <p:blipFill>
          <a:blip r:embed="rId1"/>
          <a:stretch/>
        </p:blipFill>
        <p:spPr>
          <a:xfrm>
            <a:off x="304920" y="942840"/>
            <a:ext cx="8534160" cy="497232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54277" descr=""/>
          <p:cNvPicPr/>
          <p:nvPr/>
        </p:nvPicPr>
        <p:blipFill>
          <a:blip r:embed="rId2"/>
          <a:stretch/>
        </p:blipFill>
        <p:spPr>
          <a:xfrm>
            <a:off x="1244520" y="3495600"/>
            <a:ext cx="1981440" cy="194328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54278" descr=""/>
          <p:cNvPicPr/>
          <p:nvPr/>
        </p:nvPicPr>
        <p:blipFill>
          <a:blip r:embed="rId3"/>
          <a:stretch/>
        </p:blipFill>
        <p:spPr>
          <a:xfrm>
            <a:off x="3606840" y="3470400"/>
            <a:ext cx="1981080" cy="194292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54279" descr=""/>
          <p:cNvPicPr/>
          <p:nvPr/>
        </p:nvPicPr>
        <p:blipFill>
          <a:blip r:embed="rId4"/>
          <a:stretch/>
        </p:blipFill>
        <p:spPr>
          <a:xfrm>
            <a:off x="5940360" y="3470400"/>
            <a:ext cx="19814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2231" descr=""/>
          <p:cNvPicPr/>
          <p:nvPr/>
        </p:nvPicPr>
        <p:blipFill>
          <a:blip r:embed="rId1"/>
          <a:stretch/>
        </p:blipFill>
        <p:spPr>
          <a:xfrm>
            <a:off x="237960" y="1033560"/>
            <a:ext cx="8668080" cy="47908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826920" y="2693880"/>
            <a:ext cx="489744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539640" y="3227400"/>
            <a:ext cx="489744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395280" y="3730680"/>
            <a:ext cx="489744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468360" y="4235400"/>
            <a:ext cx="4897440" cy="4939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468360" y="4811760"/>
            <a:ext cx="489744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7"/>
          <a:stretch/>
        </p:blipFill>
        <p:spPr>
          <a:xfrm>
            <a:off x="468360" y="5286240"/>
            <a:ext cx="48974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25:3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